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47D-FA62-4B12-92BB-653492EC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1DB-6DEA-4C70-A157-72EE9B51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240-2324-475F-B27A-6945CF6B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E82-0E2C-46EA-B246-A259A38C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E8A-F187-44B2-93DD-5C7F08F1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9EA-85A8-4ACD-A714-E3C32235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C3C-E7CB-4107-8EA1-50C91602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3A4-33E7-40DC-8329-530B4333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953-C41D-473E-B4F3-5D034E51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E80-F53A-426E-BE1A-ADAAE14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FED-4181-46CA-A4B6-91D881F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31C-F0B0-4F3B-A4C6-882A721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79C8-699D-4A93-8BDF-3EA97FF32E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СА ЕПИДЕМИОЛОГИ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ТРЕЋА </a:t>
            </a: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И ЧЕТВРТА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упљ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ог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гови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ститељ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ли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же потреб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нитар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иј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чишћав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улис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лаж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јациј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еро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јат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сихичко ст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авез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 саобраћајниц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пон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алн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643040"/>
            <a:ext cx="8464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унча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ијентиса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 водоснабдева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аљ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дј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м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ћ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нтитатив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упље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клађив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фичност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крет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ис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итељ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дици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нденц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стан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ногих друг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к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лош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ном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ли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ж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хитекто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онал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стич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з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тупност садрж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одене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ф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бита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рбогени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ређивањ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лерги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лач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об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зновр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бани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потреб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одржив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жа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струкц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лик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трошњ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завис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ашњих 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еј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о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а пости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ост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а свеж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им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илтрациј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родн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механ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вед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жег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згр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узро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ш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стан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ћ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ључ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ве акци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 извор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остављањ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чишћавањева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НАС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светљавањ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стор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и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форни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није освјетље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штачк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њ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ош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ом повеза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шков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ветљењ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ју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ме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ј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рас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ште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356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ОДА ЗА ПИ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57200" y="282240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стабилан хемијски спој  водоника и кисео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и чиста вода (десатилована вода)  при притиску од 1 атмосфере  има тачку мржњења од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тачку кључања од 10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а највеће густине је на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990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НИЦИЈ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189000"/>
            <a:ext cx="8153280" cy="61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Земљи има 1,5 милијарди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оде. Од те количине 97, 3% је слана вода, а само 2,7% слатка. Од укупне количине слатке воде 77,2% је у вечитом леду на половима и у планинским глечер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 укупне количине расположиве слатке воде 22,4% су подземне воде, а 0,36% површинске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коришћење је на располагању 1% укупне количине воде на Земљ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2209680"/>
            <a:ext cx="609588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ГИЈЕ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ПИДЕМ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1828800" y="3086280"/>
          <a:ext cx="5486400" cy="66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86280"/>
                    <a:ext cx="5486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4"/>
          <p:cNvSpPr/>
          <p:nvPr/>
        </p:nvSpPr>
        <p:spPr>
          <a:xfrm>
            <a:off x="-76320" y="1828800"/>
            <a:ext cx="899172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један од основних услова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% организма одраслог човека чини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оред воде у организму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ла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% од телесне теж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Лит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кстрацел.  интраваск. плаз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-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стицијал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2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рацелулар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0-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Целокупна течност организм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70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1981080"/>
            <a:ext cx="79250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 хидростатски, онкотски и осмотски прити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могућава обављање биохемијских процеса и уклањање штетних супстанција из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нормалном функционисању здравог организма одржава се стални биланс воде у њ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404640"/>
            <a:ext cx="8382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ланс воде у здравом организ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о Pillenu и Rushmae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ношењe вoд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блик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количина(ml 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пут       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личина (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љ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a течност              1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лућ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a                                  1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К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oда oксидације                  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Ур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eц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пно                        26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Укупн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792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80880" y="1828800"/>
            <a:ext cx="8229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неопходна намирница за сва жива би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 потребе у води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ео и годишње доб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Потребе у  во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/д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ерена клим. подр. (30-40 ml/kg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арки предел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сти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1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4000" y="1341360"/>
            <a:ext cx="838188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воде човек може да издржи само неколико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ледице губитк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Дневни губитак у литр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тна дехидрациј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5 литара (2%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 дехидр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2 литра (6% 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мр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-11 литара (15%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лног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ременог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 производ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руг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л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о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7621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226836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омогућава одржавање сталне телесне температуре због високог топлотног капацитета (4 пута већи од ваздух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топлоте испаравањем (знојењем) је једини терморегулациони механизам који функционише када сви други откажу (зрачење, кондукција, конвекциј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609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2986200"/>
            <a:ext cx="8153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се под утицајем Сунчеве енергије и растворених неорганских материја ствара жива материја која кружи у ланцу исхране (фитопланктон, па зоопланктон, па виши водени организми и т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57200" y="2589120"/>
            <a:ext cx="8305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је могућ живот, развој, размножавање и опстанак различитих биолошких и хемијских чинилаца који могу да утичу на здрав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ом се могу пренети бактерије, вируси и параз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195732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ак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е се могу пренети водом и доводе до оштећења здравља су: E. coli, Proteus, Streptococcus faecalis, Bacilus dysenteriae, Salmonella typhi, Salmonella paratyphi A i B, Shigellae, Vibrio colerae, Pasteurella tularenssis i 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ужuна њиховoг oпстaнкa у води зa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б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лoшке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н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e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e, Сунчeвe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тлости, количине органских материја, ф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зички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(npr. темпeр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) и хем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ск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 (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. pH) свој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вo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26920" y="333360"/>
            <a:ext cx="74678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ирус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eno (31 serot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ho (31 ser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A (2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B (6 serotip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o (3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o (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to (2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tomegalo (1 sre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2489040"/>
            <a:ext cx="830592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жина опстанка неких ентеров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у данима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чна вод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ерска вода и акуму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гађена вод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еко 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7200" y="2268360"/>
            <a:ext cx="8001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зи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ntameba histoli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mblia intestin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aris lumbrik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hocef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uris vermicul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1628640"/>
            <a:ext cx="716292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организми краће опстају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гађеној в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вишој темпера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јачем и дужем Сунчевом зра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мањој количини органских ма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шћој промени физичких и хемијских својстав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3520" y="2543040"/>
            <a:ext cx="8153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дацима СЗО од болести  пренетих водом оболи око 500 милиона људи, а умре око 10 мил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цењује се да око 10% болничких кревета користе болесници оболели од болести пренети микробиолошки неисправном в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9640" y="164160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аци о тачном броју оболелих због употребе физичко- хемијски неисправне воде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може бити физичко-хемијски неисправна због повећа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нитр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и-метхемоглобинемија, магнезијум-дијареја, детерџенти-алергије, трухалометани, PAH, PCB-малигна обољењ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ли смање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јод-струма, флуор-зубни каријес, цалцијум и магнезијум. болести КВС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садржаја појединих показате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адом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дразумевамо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ме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ин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већ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ољопривред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нств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о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глед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јама и велич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609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ВОД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1125360"/>
            <a:ext cx="84391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за сн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који има најмање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,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, резервоар и водоводну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ВОДОВОДНА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цеви за одвод воде од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од резервоара до потр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хидранти и вентили су саставни део водоводне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Делови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главни вод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капта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резервоара до разводне м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разводна мре</a:t>
            </a:r>
            <a:r>
              <a:rPr b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а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главног вода до резервоара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00" y="6094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4000" y="2381400"/>
            <a:ext cx="843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ухватају простор који се утвр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 за св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бунари и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за хватање подземне воде, захват са 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ог тока и акумулације),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, резервоара и главног цевовода у циљу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 квалитет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од намерног или слу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ног заг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ња као и других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тних утиц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ЕВИ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4000" y="1881360"/>
            <a:ext cx="83628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Plain"/>
              </a:rPr>
              <a:t>Врсте зон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а непосред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строгог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ограни</a:t>
            </a:r>
            <a:r>
              <a:rPr b="0" i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ењ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р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84360" y="404640"/>
            <a:ext cx="761976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ритеријуми за од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вање зона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изд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ости извор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обј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н захват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анитарно-техн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 у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ење 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нфигу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хидрогеоло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а и др. својства земљ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189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ЕПОСРЕДНА зона санитарне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, црпних станица, инсталација за поправку квалитета воде, резервоара и комора за прекид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езб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гр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вањем (изузетак водоторње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најмање 10 м од објекта код резервоара, црпних станица, инсталација за поправку воде, комора за прекид притиска и дубоко бу{ених бун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дозвољен приступ само запосленим лицима под здравственим надз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м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се користити само као сенокос, али без употребе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611280" y="189000"/>
            <a:ext cx="7696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и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под санитарним надзором на којој није дозвољена изградња обј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окупну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у депресионог левка или најмање 500 м око акумулације при нормалном усп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не огр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, 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 се м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 користити у пољопривредне сврхе уз огран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ње употребе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826920" y="404640"/>
            <a:ext cx="76201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Р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у или део територије сливног подр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ја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или територију која сл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 за напајање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забрањена је изградања индустријских и других објеката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је отпадне воде и материје из технол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ког процеса могу загадити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84360" y="404640"/>
            <a:ext cx="74674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споставља око главних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зноси најмање по 2,5 метара са сваке 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 њему није дозвољена изградња објеката, постављање у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ја и обављање радњи које на било који н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 могу угрозити воду и стабилност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43000" y="68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5640" y="1484280"/>
            <a:ext cx="708660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 је метод пречишћавања воде којим се уклањају патогени и условно патогени микроорганизми. Њиме се не уклањају спорогени облици и цисте. Вируси се могу уклањати при довољно дугој изложености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143000" y="2009880"/>
            <a:ext cx="7620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ЗАМ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лањање патогених и условно патогених микроорганизама је последица поремећаја колоидне равнотеже и/или равнотеже ферментног система дисања и/или метаболизма микро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 изградњ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 њихових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езбедити одговарају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ви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итива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 насељ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љопривредног земљиш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дговарајућ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обилаз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аб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у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95280" y="1197000"/>
            <a:ext cx="8064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Е ДЕЗ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ХАНИЧКЕ МЕТО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ЕМИЈС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826920" y="260280"/>
            <a:ext cx="7315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Ч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јраспрострањенија механичка метода дезинфекције воде ј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илтрирањ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ЛТРИРАЊЕ се користи за дезинфекцију малих количина воде за пиће или као једна од етапа у преради великих количина воде за пић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познатији филтри су: Chamberland-ovi, Berkfefeld-ovi, а у новиј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eмe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ф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д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астичних м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39640" y="404640"/>
            <a:ext cx="8136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ке методе дезинфекције се обично користе за дезинфекцију малих количина воде за пић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њује 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Топло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ода кључа 10 минута, што је довољно да се коагулишу беланчевине бактер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љубичасти зрац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таласна дужина од 2000-2950 ангстрема разарају протоплазму микроорганизама. Уклањају бактерије и вирусе. Услов је бистра вода  која се у танком млазу пропушта преко површине лампе. На овај начин се најчешће дезинфикује минерална вода. Недостатак методе је одсуство одложеног дезинфекционог е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684360" y="549360"/>
            <a:ext cx="761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  воде обухватају примену хемијских супстан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се ретко дезинфикује кречом, персирћетном киселином, јодом, тешким металима (сребром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јчешће се хемијска дезинфекција воде обавља применом хлора и оз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684360" y="404640"/>
            <a:ext cx="7696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хл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је жућкасто-зеленкасти гас који у контакту са водом ствара хипохлорасту киселину, хлороводоничну киселину и насцентни кисео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ханизам дејства није до краја расветљен, али се сматра да је бактерицидни ефекат последица реакције хипохлорасте киселине, хлороводоничне киселине и насцентног кисеоника са SH-ферментним системом дисањ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и-азо-фосфор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хидрогеназ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ује на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атогене и условно патоге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и ентеровиру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187280" y="260280"/>
            <a:ext cx="7315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их својстава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могенизациј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на контакта са 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еоролошких еле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тн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аја суспендованих и органских матер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900000" y="62064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о су микроорганизми савршенији то су отпорнији на дезинфекцију хлором. Грам-негативне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moneлла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су осетљивије од грам-позитивних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igela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бољи бактерицидни ефекат показује хлор-диоксид, па хлор, гас, хлор течност, хипохлораста киселина, хлорни креч, хлорам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парат мора бити добро хомогенизован да би дезинфекција била успеш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900000" y="549360"/>
            <a:ext cx="75438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контакта мора да је најмање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нижим температурама је дезинфекција спорија, а и потребна је већа количина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нчево зрачење и ветар убрзавају дезинфекцију, али и исчезавање хлора из 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редност за дезинфекцију је 6,2-6,5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 pH 7,2 дезинфекциони ефекат је 84%, а при pH 8 је 5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ћана мутноћа, присуство суспендованих и органских материја смањују ефекат дез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755640" y="476280"/>
            <a:ext cx="7696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тржишту број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фикасност зависи од садржаја активног х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гас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 се раствара 9,5g. У водоводном систему да би дезинфекција била успешна пожељно је да буде температура 10-1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, притисак 3 at као би растворљивост била 4,0 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диокси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2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се раствара 81 g. Оптимална концентрација за дезинфекцију подземне и пречишћене воде је 0,25-0,5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24000" y="189000"/>
            <a:ext cx="8591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креч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меша у којој преовлађује хлор-хипохлорит који је нестабилно једињење. Када се правилно чува садржај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ктивног хлора је 30-35 %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У промету је концентрација од 20%. Препарат је јефтин, сигуран и широко се примењуј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охлорит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лор у њима је стабилно везан. Најпознатији препарати су капорит са 60-70% активног хлора, натријум-хипохлорит тј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Жавелова вода са 12-15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ргански препарати с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5-60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Имају споро и продужено дејство које се манифестује релативно стабилном нивоом слободног резидуалног хлора по завршетку процеса хлорисањ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с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ти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це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обраћ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684360" y="692280"/>
            <a:ext cx="754380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ХЛОР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ДАРД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ЕРХЛОРИСАЊЕ СА ДЕХЛОРИС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ИСАЊЕ НА 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ЧКИ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95280" y="33336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ОЗ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он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ко дезинфекционо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сидише и разара органске у неорганске материје у води и побољшава у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која се дезинфикује озоном мора бити чиста и би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авни недостатак методе је одсуство продуженог дезинфекционог утиц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Хигијена рада је превентивна медицинска грана у оквиру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ГИЈЕНЕ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која  на бази научних сазнања, практичних мера и поступака обезбеђује високу радну способност и спречава настанак професионалних обољења и других оштећења здравља везаних за радни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Она обухвата човека појединца  и  групе  радника  у  радном  процесу,  на радном месту и у амбијенту у коме се рад одв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411280" y="620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ГИЈЕНА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хваљујући развоју науке и технике у многим привредним гранама напоран физички рад је све мање заступљен, али се зато повећало психичко оптерећење радника и потреба за одређеним знањем и навикама, што  се  претходно  мора  обезбедити  школовањем рад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Да би одређене послове могао обављати успешно и безбедно, радник мора поседовати посебне психофизичке особине. Зато се у оквиру хигијене рада развијала професионална оријентација и селекција као превентивна гра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ада карактер рада и радна средина имају негативни утицај на здравље и радну способност запослених, то значе да постоје професионални штетни фактори у радној средини. Као професионално штетни фактори, поред физичких, хемијских и билошких, јављају се и  бројни  други  чиниоци  који  нарушавајући  конфор  у радном процесу, доводе до промене здравственог стања и радне способности. Ту спадају нерационална организација рада и одмора, неповољни психосоцијални односи у колективу, неадекватна исхрана, неповољна дужина радног време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 практичном делу хигијена рада решава питања санитарног надзора у производњи путем периодичне контроле и мерења услова рада и професионалних штетних фактора  у  фабрикама  и  другим  производним установама. Велики значај има и санитарни надзор над пројектовањем, изградњом и реконструкцијом производних објека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Откривање,  идентификација  и  квантификација  физичких, хеми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ских и биолошких фактора у радној средини и њихова евалуациј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2. Евалуација других фактора услова рада и радне средине који делују на организам као стес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3. Предлагање  мера  за  побољшавање  услова  рада  и смањивање ризика од настанка професионалних обољења и повреда на ра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4. Изучавање  и   предлагање   мера   за   обезбеђење физиолошких услова рада у току радног процеса  уз прилагођавање   техничких   система   и   техноло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људским могућностима (ергономија рада  и  радне средин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Екологија рада је оријентисана на подручје радне средине и обухва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1.    Процену биолошких захтева радног м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2.    Препознавање и идентификацију ште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3.    Евалуацију и контро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физич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У агенсе физичке природе чије присуство у радној средини може штетно деловати на раднике спад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Клима и микрокл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овећан и снижен барометерски притиса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светљен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Инф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лт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брац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Не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ерозагађење (Хемијски неактивна прашин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Механичка с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Електрична стру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Својим дејством у радној средини физички агенси могу   довести   до   повреда   на   раду   и   појаве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професионалних и других обољења везаних за ра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биолош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агенсе биолошке природе чије присуство у радној средини може штетно деловати на раднике спадај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рус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Бактер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Гљив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ротозо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Хелмин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ртропод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ви микроорганизми или њихови фрагменти могу изазвати професионална обољења или обољења везана за ра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односу на домаћина, биолошки агенси могу би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Патоген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довести до инфекције и обоље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Опортунистичк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изазвати инфекцију и обољење само када је смањена отпорност домаћ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Апатогени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 Изазивају  само  колонизацију  која  не штети домаћ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хемијс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ејство хемиских материја на организам запослених најчешће се среће у хемијској индустрији, рударству, машиноградњи, нафтној индустрији, гумарств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које  унете  у  организам  у малим   количинама   изазивају   хемиске   и   физичко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реакције  са  ткивом  називају  се  отров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јам   отровности   је   релативан   јер   практично   св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у  одређеним  условима  и  околно- стима могу бити от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У производном процесу отровност могу показивати  сировине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еђупродукти,  готови  производи  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тпадне матер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и агенси који штетно делују на раднике могу бити у чврстом, течном и гасовитом стању, а према пореклу могу бити органске и неорганске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404640"/>
            <a:ext cx="85899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бром саобраћај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ис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иј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јеката неопходн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ључк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н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ди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 аеро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500" spc="-1" strike="noStrike">
                <a:solidFill>
                  <a:srgbClr val="000000"/>
                </a:solidFill>
                <a:latin typeface="Calibri"/>
              </a:rPr>
              <a:t>ФАКТОРИ ЖИВОТНЕ СРЕДИ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Животну средину карактерише и шест група фактор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везани  за  физичку  активност  радника  (динамичку или статичку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 везани   за   менталну   активност   радни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(перцепција, одлучивање, деловањ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и    фактори    (нутрицијенси,   кисеоник,   вода, хемијске материје у радној средини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изчки фактори (звук, вибрације, клима, радијација и др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биолошки фактори (бактерије, вируси, гљивице, животиње, биљк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социјални фактори (међуљудски односи, организа-ција рада, политички систем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Наведени фактори животне средине могу се класификовати и према биолошкој есенцијалности н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биолошки есенцијални фактори - неопходни 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развој и очување здравља човека (нутрицијенси, физичка и ментална активност, социјални контакти, температура, влажност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неесенцијални фактори - нису неопходни з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за развој и очување здравља чове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о (штетн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материје,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козметика, дуван, алкохол, вибрације, јонизујуће зрачење и др.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Истовремено  присуство  различитих  фактора  рад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средине може да доведе до њихове међусобне интеракције, овде се првенствено мисли на интер-акцију физичких, хемијских и биолошких фактора радне средине (унутар исте или између различитих група). Интеракције с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могу одвијати у различитим медијумима, али су за медицину  рада  најзначајније интеракције које  се одвијају у ваздуху радне сре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еракције животне и радне сре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нтеракција  сунчеве  светлости,  микроорганизама, влажности и температуре ваздуха и пестици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стовремено    присуство    сунчеве    светлости    и микроорганизама убрзава разградњу пестицида, као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 већа влажност и температура ваздух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Ваздушни притисак и температура ваздуха делују на садржај издувних гасова дизел мотира;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и  сниженом атмосферском притиску концентрације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иселих органских једињења у  издувним гасовима дизел мотора су веће него ли при нормалном притис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астанак фотохемијског смога; У настанку смога учествују атмосферски кисеоник,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лтравиолетна радијација и азотни оксид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онашање гасова и пара зависи од температуре и притис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ривене ште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Скривене  штетности  се  не  користе  и  непроизводе намерно, већ се стварају и у атмосферу ослобађ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 случају акцидент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Представљају адитив или онечишћење у другим хемијским материја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Бензе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Фосфин и арс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иокс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Приликом сагоревањ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след декомпози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пходно познавање и интеракција и извора скривених штетности и опас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Calibri"/>
              </a:rPr>
              <a:t>МАКСИМАЛНО ДОЗВОЉЕНЕ ДОЗЕ И КОНЦЕНТРАЦИЈЕ (МДК и МДД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Д и МДК су концентрације и дозе којима по досадашњим сазнањима, радници могу бити изложени 8 сати дневно, 5 дана недељно, током радног века, а да им здравље не буде угроже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су обично 2-3 пута мање од концентрација и доза које изазивају хронично обољ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вај индекс сигурности (коефицијент резерве) је неопходан због различите индивидуалне осетљивости организма. И поред тога осетљиви и хронично оболел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радници   могу   да   осете   одређене   тегобе   и   при концентрацијама и дозама нижим од МДК и МД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себне норме су израђене за физичке (јонизујућ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зрачење, разне прашине) и друге штетне аген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за поједине штености су у неким земљама законски прописане и обавезујуће (европске земље укључујући и нас), док у другим прдстављају сам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бавезујућ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препоруке-С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тровност материје највише зависи од концен- трације и времена експозиције. У вези стим разликујемо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концетрационе отрове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чија отровност зависи претежно од концентрациј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хроно-концентрационе отрове - чија отровност зависи од времена експозиц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 оцену отровности неке материје најзначајнија је њена концентрација у крви, мада због различите биолошке активности отрова, ресорбована доза не говори увек о стварној отровности неке матер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бог   тога   се   токсични   ефекат   неке   матери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изражав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смртнос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експонованих организама или патолошке промене у организму ко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на изаз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 има право на безбедност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 здравље на раду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contenu 2"/>
          <p:cNvSpPr/>
          <p:nvPr/>
        </p:nvSpPr>
        <p:spPr>
          <a:xfrm>
            <a:off x="0" y="1557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посл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ници и студенти на пра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стручном оспособљавањ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издржавању затворске казне која ту раде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добровољним и јавним радови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која се затекну у радној окол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упишу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 седам груп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чке опасности (које се појављују коришћењем опреме за 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у вези са карактеристикама радног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коришћењем електричне 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настају или се појављују у процесу ра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проистичу из психичких и психофизиолошких напо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везане за организацију 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е штет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ОПАСНОСТИ И ШТЕ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8080" y="60948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и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веза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ц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рганиз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ста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тицаје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ео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факто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дуг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брз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опш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напорн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комфор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сло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увежб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истренир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су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ољ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тер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ренир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болес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бјективн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нифесту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ормал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рис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следиц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вакодневних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счезав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ви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имптом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осећај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павањ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јвећ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иториј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иш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ич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тамбена јединиц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икрореј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пербло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јед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ца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у ч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те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 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браћај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рад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гну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уж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јент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ажа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о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21:20Z</dcterms:created>
  <dc:creator>Windows User</dc:creator>
  <dc:description/>
  <dc:language>en-US</dc:language>
  <cp:lastModifiedBy>nelad</cp:lastModifiedBy>
  <dcterms:modified xsi:type="dcterms:W3CDTF">2020-10-01T22:30:51Z</dcterms:modified>
  <cp:revision>15</cp:revision>
  <dc:subject/>
  <dc:title>ХИГИЈЕНА И ЕКОЛОГИЈА</dc:title>
</cp:coreProperties>
</file>